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C9A-B2A3-4794-93FB-45BD26B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097-77F2-47B0-B36A-896AE97C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F2F-6CDC-4E0B-BAC2-898DA5B9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AB4-5160-4BC2-B516-54DD7BA3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122-FCD5-4735-8F63-4E9C3CF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6E5-1D33-4D36-8A3D-8008468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34D-53AC-4BF2-A1C4-08020199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49F-AD90-46D4-8573-A58AE582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500-C0D3-431C-A5B0-E19CC834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B93-04F9-4CAE-A39A-725362A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C79-98A3-4E28-93FB-665B5AA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8F0-175A-4F83-9CB3-5AF660DC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F06-E9AE-4C66-8FD9-D963968792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alf-c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ohn Ag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224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lf-c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h r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ensive term to denote a person whose parents are of different 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ibbean expletive meaning ‘my ars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4T09:01:24Z</dcterms:modified>
  <cp:revision>52</cp:revision>
  <dc:subject/>
  <dc:title>La Belle Dame Sans Merci</dc:title>
</cp:coreProperties>
</file>